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35AF-0ED8-4655-B311-C8F14B54DD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5BAA-0D90-4F0D-BEE7-99DEC617E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14D5-9AEC-471F-A9DC-113CA266A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D98A-B785-403E-B576-12EC1CD57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E7A-011E-4693-BDC9-E77F5194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FF0-E1D9-497D-942A-BCA04EBF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756-BF31-4D3F-9385-A150366A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0E9-C0B0-4C7D-A041-99F840D5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2251-2363-452C-85E5-0575CB94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AA82-A222-401D-8535-AD769AC3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B18A-585B-4C02-8E7E-CB6B158E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560B-6EF7-4CBE-B904-6BC5CF22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3355-D1EF-47DF-A3F1-BAEB57C5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2FAF-0FE2-4A4E-9B7C-91D908A4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B641-2332-417A-B98C-6D08245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11A-DED5-4BFC-B6DF-B8FC6AE9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8462-88AD-44A1-8492-076756CF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3DA1-8C5E-46B6-833B-6BF1F540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1EC5-F4BA-4CC5-A5CE-51A120B1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AF73-8AB7-4A8D-9D7E-8A48C424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AC20-53BB-40BB-9AB8-677827D7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FD18E-9AAC-43C8-B566-EA913B46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C852-9818-48DD-A865-0B753D12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CBBD-7ABB-44C5-BD3D-2A44A8DA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EED23-D807-48AC-B9AF-F7F1FCB1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68C78-CF5F-44DE-B51D-175118D0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D15-30C8-4084-8BD7-B1FD3867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416F-E521-4F72-9DA6-A647FA65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E3E8-6178-4FC8-A0CB-0FF928C5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AA95-F1E2-45EE-9CA8-28D0FC5E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1378-B161-48BB-9E11-45275C21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3334-57A2-4EA0-B32D-889FFF63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07FDC-0B43-4FD9-AE6A-6A5CA4E8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689B-9887-4E39-A02A-6A5AB771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90F74-E19D-43E1-BFD8-B5D37CFE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B872-583C-4C6E-8D9A-0F13283A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F8F2-E3DA-4C5B-9C61-D2490B8F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86E-EE2D-491D-9FF8-CB2C822E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752D9-C9E9-4BCA-B87D-0242A306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E07C-C6C7-4FC9-A514-E2CB94DA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3851-F8B7-4015-925F-88AC5B2A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7B5BD-200F-4A64-9F80-74CCA9ED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5460-94CE-41F9-8FFD-9199107D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41AB-B37F-4884-9D43-B75464ED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31010-1FA7-4EA3-A834-F5F16E3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0D3A2-BC59-4B36-94B1-48E18C1D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88E78-DBFE-4408-BE05-269CC127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6D1-B838-4C70-8345-257598D6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D29-CFB4-46B4-AEFF-CDBDDC89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F1F-E08A-4B7B-A351-011FFCD7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6D6-75A0-465F-855A-3FF85689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689-9944-4E4C-BB19-44B862DD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8B21-07B6-4B5E-BF94-4BF883ED8BD8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D5E7-D84A-4E02-BFE8-64FFDE100F34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25B0-B6CC-4C09-B72E-F5D5DCAF6386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816A-6F72-4F67-9CFF-C5F0D456F855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90;&#1080;%20&#1079;%20&#1084;&#1091;&#1083;&#1100;&#1090;&#1080;&#1084;&#1077;&#1076;&#1110;&#1072;.pptm" TargetMode="External"/><Relationship Id="rId2" Type="http://schemas.openxmlformats.org/officeDocument/2006/relationships/hyperlink" Target="file:///&#1060;&#1110;&#1079;&#1082;&#1091;&#1083;&#1100;&#1090;&#1093;&#1074;&#1080;&#1083;&#1080;&#1085;&#1082;&#1072;%20&apos;&#1058;&#1086;%20&#1085;&#1077;%20&#1108;%20&#1087;&#1088;&#1086;&#1073;&#1083;&#1077;&#1084;&#1072;&apos;.mp4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03360" y="603360"/>
            <a:ext cx="7864200" cy="5694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лан уро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206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Гра «Мікрофон», «Інформлото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Тест-контроль «Мультимеді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знайомлення з мультимедійними програвач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Фізкультхвилин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конання практичної роботи «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піювання об'єктів мультимедіа на комп'ютер. Робота з мультимедійними програвачам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ідведення підсумків, домашнє завдан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Мультимеді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ограмний продукт, що комбінує різні форми представлення інформації на одному носієві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текст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аудіо (звук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ображенн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анімацію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ідео (рухомі зображення, філь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6012000" y="29242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7380360" y="29242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4"/>
          <a:stretch/>
        </p:blipFill>
        <p:spPr>
          <a:xfrm>
            <a:off x="4788000" y="400536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6"/>
          <a:stretch/>
        </p:blipFill>
        <p:spPr>
          <a:xfrm>
            <a:off x="7380360" y="407664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ультимедійні програвачі-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еціальні програми для відтворення файлів мультимеді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611280" y="3162240"/>
            <a:ext cx="3456000" cy="2679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4572000" y="3249720"/>
            <a:ext cx="407664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Мультимедійні програвачі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22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edia Player Class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inAm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indows Media Play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ickTime Play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C:\Users\Oksana\AppData\Local\Temp\Rar$DR00.141\5.bmp"/>
          <p:cNvPicPr/>
          <p:nvPr/>
        </p:nvPicPr>
        <p:blipFill>
          <a:blip r:embed="rId1"/>
          <a:stretch/>
        </p:blipFill>
        <p:spPr>
          <a:xfrm>
            <a:off x="5899320" y="313524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C:\Users\Oksana\AppData\Local\Temp\Rar$DR01.851\2.bmp"/>
          <p:cNvPicPr/>
          <p:nvPr/>
        </p:nvPicPr>
        <p:blipFill>
          <a:blip r:embed="rId2"/>
          <a:stretch/>
        </p:blipFill>
        <p:spPr>
          <a:xfrm>
            <a:off x="5837400" y="2247840"/>
            <a:ext cx="876240" cy="887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C:\Users\Oksana\AppData\Local\Temp\Rar$DR01.286\1.bmp"/>
          <p:cNvPicPr/>
          <p:nvPr/>
        </p:nvPicPr>
        <p:blipFill>
          <a:blip r:embed="rId3"/>
          <a:stretch/>
        </p:blipFill>
        <p:spPr>
          <a:xfrm>
            <a:off x="5805360" y="3998880"/>
            <a:ext cx="1095480" cy="11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4"/>
          <a:stretch/>
        </p:blipFill>
        <p:spPr>
          <a:xfrm>
            <a:off x="5961240" y="1393920"/>
            <a:ext cx="807840" cy="809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Вікно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едіапрогравача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indow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387440" y="1347840"/>
            <a:ext cx="6120000" cy="5033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кутник 3"/>
          <p:cNvSpPr/>
          <p:nvPr/>
        </p:nvSpPr>
        <p:spPr>
          <a:xfrm>
            <a:off x="395280" y="11635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к → Усі програми → Стандарт­ні → Розваги → Програва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Дай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 відповід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Для чого призначені мультимедійні програвачі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— 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Який  мультимедійний  програвач  належить  до  складу  ОС Windows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Для чого призначена програма Медіапрогравач Window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Який тип файлів може відтворювати Медіапрогравач Windows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— 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Які  додаткові  функції  має  Медіапрогравач Windows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Які бібліотеки має Медіапрогравач Windows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кутник 1"/>
          <p:cNvSpPr/>
          <p:nvPr/>
        </p:nvSpPr>
        <p:spPr>
          <a:xfrm>
            <a:off x="826920" y="15526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є завд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ити п. 3.2 стр.92-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ти №3 стр.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2:21:29Z</dcterms:created>
  <dc:creator>Ирина</dc:creator>
  <dc:description/>
  <dc:language>en-US</dc:language>
  <cp:lastModifiedBy>Nedilya</cp:lastModifiedBy>
  <dcterms:modified xsi:type="dcterms:W3CDTF">2014-10-22T06:56:46Z</dcterms:modified>
  <cp:revision>41</cp:revision>
  <dc:subject/>
  <dc:title>Основи роботи з мультимедіа</dc:title>
</cp:coreProperties>
</file>