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EBD-588B-4F29-B425-8C61AF2480B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C4F-F199-4188-AD0F-5D0306377A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0BB-429B-4479-85B2-50FFD2CA04F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A07-E49D-42D5-A625-6930EC73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75B-2B35-4E85-BF0B-AD22C8C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0B8-AD84-4109-B018-ECAB63A7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327-DB6A-4A19-8BF4-9A28AD5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5A7-96CF-4F40-AB0A-9EC563E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48A-0EA6-4354-86E9-7A99F50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81D-794A-4421-BA4E-5FA77D8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2F1-3268-4477-A278-D5F1EC6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CEA-5673-4EE9-B259-B972085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719-4D09-4480-B5DB-5282AC8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362-DEE8-4C49-BC09-CC50A43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58C-AFAA-4490-A825-A067D647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95E-4C77-4096-836F-01318D4559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0;&#1072;&#1081;&#1083;:Plane_parts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s://uk.wikipedia.org/wiki/&#1060;&#1072;&#1081;&#1083;:Strug_gladzik_czesci.jp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0;&#1072;&#1081;&#1083;:Stanley_No10_carriagemakers_rebate_plane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0;&#1072;&#1081;&#1083;:Rodz_strugow_01.jp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мі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71680" y="1285920"/>
            <a:ext cx="8001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. Будова руба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. Історична дові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.Принцип робо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4.Техніка оброблення з використанням руба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5.Класифікація рубан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6.Іструмент для стругання плоских поверхо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7.Руба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Фуга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9.</a:t>
            </a:r>
            <a:r>
              <a:rPr b="0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Малий рубанок метале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0.</a:t>
            </a:r>
            <a:r>
              <a:rPr b="0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еслярський рубанок-медвед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1. Шерхеб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хеб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тата\schrupphobel_derevo_435.jpg"/>
          <p:cNvPicPr/>
          <p:nvPr/>
        </p:nvPicPr>
        <p:blipFill>
          <a:blip r:embed="rId1"/>
          <a:stretch/>
        </p:blipFill>
        <p:spPr>
          <a:xfrm>
            <a:off x="2146320" y="1712880"/>
            <a:ext cx="4887720" cy="3968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3ebb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1571760" y="200016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roitelstvoidizain.ru/site/article.php?id=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1571760" y="2428920"/>
            <a:ext cx="55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lotniku.com/ua/wood-planing-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1618920" y="292896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log.hedgeh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1613520" y="32860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-in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1578960" y="37148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embu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1583280" y="414324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-flow.ru/?article&amp;id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 руба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00120" y="3500280"/>
          <a:ext cx="6240600" cy="2881440"/>
        </p:xfrm>
        <a:graphic>
          <a:graphicData uri="http://schemas.openxmlformats.org/drawingml/2006/table">
            <a:tbl>
              <a:tblPr/>
              <a:tblGrid>
                <a:gridCol w="3119400"/>
                <a:gridCol w="3121200"/>
              </a:tblGrid>
              <a:tr h="247680">
                <a:tc gridSpan="2"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ові елементи рубан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анок метале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анок дерев'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768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3840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 — робоча щілина (льоток)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 — ніж (залізко)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 — клин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 — регулятор вильоту леза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 — передня рукоять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 — стружколамач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 — регулятор нахилу леза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 — задня рукоять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— упор для вказівного пальця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 — пластина регулювання кута нахилу різц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 — робоча щілина (льоток)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 — ніж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 — клин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 — стружколамач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 — рогоподібна рукоять на носку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 — колодка (корпус)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 — підош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52" name="Рисунок 1" descr="Plane par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6240" y="1212840"/>
            <a:ext cx="2852640" cy="2146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Strug gladzik czesc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212840"/>
            <a:ext cx="3048120" cy="2146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Історична довідка</a:t>
            </a: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Принцип роботи</a:t>
            </a: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ехніка оброблення з використанням рубанка</a:t>
            </a:r>
            <a:br>
              <a:rPr sz="4400"/>
            </a:br>
            <a:br>
              <a:rPr sz="1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2"/>
          <p:cNvSpPr/>
          <p:nvPr/>
        </p:nvSpPr>
        <p:spPr>
          <a:xfrm>
            <a:off x="5388120" y="1484280"/>
            <a:ext cx="107928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4"/>
          <p:cNvSpPr/>
          <p:nvPr/>
        </p:nvSpPr>
        <p:spPr>
          <a:xfrm>
            <a:off x="5364000" y="2924280"/>
            <a:ext cx="1079640" cy="5760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5"/>
          <p:cNvSpPr/>
          <p:nvPr/>
        </p:nvSpPr>
        <p:spPr>
          <a:xfrm>
            <a:off x="5927760" y="4665600"/>
            <a:ext cx="1081080" cy="57456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6659640" y="93348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6657840" y="2668680"/>
            <a:ext cx="1103400" cy="1103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"/>
          <p:cNvPicPr/>
          <p:nvPr/>
        </p:nvPicPr>
        <p:blipFill>
          <a:blip r:embed="rId3"/>
          <a:stretch/>
        </p:blipFill>
        <p:spPr>
          <a:xfrm>
            <a:off x="7164360" y="4513320"/>
            <a:ext cx="1103400" cy="110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4"/>
          <p:cNvSpPr/>
          <p:nvPr/>
        </p:nvSpPr>
        <p:spPr>
          <a:xfrm>
            <a:off x="4857840" y="2143080"/>
            <a:ext cx="350028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571680" y="2143080"/>
            <a:ext cx="350028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рубанкі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Рубанки для обробки плоских поверхо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2499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Рубанки для обробки профільних поверхо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18"/>
          <p:cNvCxnSpPr/>
          <p:nvPr/>
        </p:nvCxnSpPr>
        <p:spPr>
          <a:xfrm flipH="1">
            <a:off x="2428560" y="1213920"/>
            <a:ext cx="714960" cy="78660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7" name="Прямая со стрелкой 21"/>
          <p:cNvCxnSpPr/>
          <p:nvPr/>
        </p:nvCxnSpPr>
        <p:spPr>
          <a:xfrm>
            <a:off x="5357880" y="1213920"/>
            <a:ext cx="714960" cy="78660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pic>
        <p:nvPicPr>
          <p:cNvPr id="68" name="Рисунок 22" descr="https://upload.wikimedia.org/wikipedia/commons/thumb/9/95/Stanley_No10_carriagemakers_rebate_plane.jpg/156px-Stanley_No10_carriagemakers_rebate_pla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2960" y="3859200"/>
            <a:ext cx="3218040" cy="2212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мент для стругання плоских поверхо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https://upload.wikimedia.org/wikipedia/commons/thumb/5/5e/Rodz_strugow_01.jpg/79px-Rodz_strugow_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7920" y="1785960"/>
            <a:ext cx="2305080" cy="3146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https://upload.wikimedia.org/wikipedia/commons/thumb/9/95/Stanley_No10_carriagemakers_rebate_plane.jpg/156px-Stanley_No10_carriagemakers_rebate_plane.jpg"/>
          <p:cNvPicPr/>
          <p:nvPr/>
        </p:nvPicPr>
        <p:blipFill>
          <a:blip r:embed="rId3"/>
          <a:stretch/>
        </p:blipFill>
        <p:spPr>
          <a:xfrm>
            <a:off x="4432320" y="1925640"/>
            <a:ext cx="2998800" cy="2719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тата\1026845-Autogen_eBook_id8.jpeg"/>
          <p:cNvPicPr/>
          <p:nvPr/>
        </p:nvPicPr>
        <p:blipFill>
          <a:blip r:embed="rId1"/>
          <a:stretch/>
        </p:blipFill>
        <p:spPr>
          <a:xfrm>
            <a:off x="1500120" y="1573200"/>
            <a:ext cx="6265800" cy="4046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г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https://upload.wikimedia.org/wikipedia/commons/thumb/b/bc/Rubank.jpg/160px-Rubank.jpg"/>
          <p:cNvPicPr/>
          <p:nvPr/>
        </p:nvPicPr>
        <p:blipFill>
          <a:blip r:embed="rId1"/>
          <a:stretch/>
        </p:blipFill>
        <p:spPr>
          <a:xfrm>
            <a:off x="1859040" y="1785960"/>
            <a:ext cx="5475240" cy="371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й рубанок металев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8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9" descr="https://upload.wikimedia.org/wikipedia/commons/thumb/b/b8/Block_plane.jpg/160px-Block_plane.jpg"/>
          <p:cNvPicPr/>
          <p:nvPr/>
        </p:nvPicPr>
        <p:blipFill>
          <a:blip r:embed="rId1"/>
          <a:stretch/>
        </p:blipFill>
        <p:spPr>
          <a:xfrm>
            <a:off x="1785960" y="2073240"/>
            <a:ext cx="5889600" cy="2998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лярський рубанок-медведка</a:t>
            </a:r>
            <a:br>
              <a:rPr sz="8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0" descr="https://upload.wikimedia.org/wikipedia/commons/thumb/9/97/Oxhyvel.jpg/160px-Oxhyvel.jpg"/>
          <p:cNvPicPr/>
          <p:nvPr/>
        </p:nvPicPr>
        <p:blipFill>
          <a:blip r:embed="rId1"/>
          <a:stretch/>
        </p:blipFill>
        <p:spPr>
          <a:xfrm>
            <a:off x="2286000" y="2359080"/>
            <a:ext cx="4572000" cy="3425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9:19:47Z</dcterms:created>
  <dc:creator>юзер</dc:creator>
  <dc:description/>
  <dc:language>en-US</dc:language>
  <cp:lastModifiedBy>Serg</cp:lastModifiedBy>
  <dcterms:modified xsi:type="dcterms:W3CDTF">2015-06-11T08:15:17Z</dcterms:modified>
  <cp:revision>99</cp:revision>
  <dc:subject/>
  <dc:title>Видобуток каменю ручними інструментами</dc:title>
</cp:coreProperties>
</file>