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laser.wav" ContentType="audio/x-wav"/>
  <Override PartName="/ppt/media/applause.wav" ContentType="audio/x-wav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81A-7316-44D0-902B-2C61FF31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F83-A718-461E-9E66-5C64BED7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868-6FD4-4ED5-B25C-A3AED0E0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60C-34B4-4C99-BA05-9D6A8176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876-B61C-4D36-A05D-99EAEC9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764-6EAF-45F5-9447-0E0641A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CB7-63A3-4D16-9C24-E9A0094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A47-F8B8-483E-BD49-67B5D4AA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33A-AC48-4214-A58B-D2F1D1F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545-59E6-4D0E-9043-D542B5A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035-819A-488B-AC2B-B1A3A62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17E-91E9-42C3-854E-088FB6DF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0501-D70C-4D58-AB77-18C599443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slide" Target="slide24.xml"/><Relationship Id="rId17" Type="http://schemas.openxmlformats.org/officeDocument/2006/relationships/slide" Target="slide26.xml"/><Relationship Id="rId18" Type="http://schemas.openxmlformats.org/officeDocument/2006/relationships/slide" Target="slide31.xml"/><Relationship Id="rId19" Type="http://schemas.openxmlformats.org/officeDocument/2006/relationships/slide" Target="slide33.xml"/><Relationship Id="rId20" Type="http://schemas.openxmlformats.org/officeDocument/2006/relationships/slide" Target="slide34.xml"/><Relationship Id="rId21" Type="http://schemas.openxmlformats.org/officeDocument/2006/relationships/slide" Target="slide36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13.xml"/><Relationship Id="rId25" Type="http://schemas.openxmlformats.org/officeDocument/2006/relationships/slide" Target="slide18.xml"/><Relationship Id="rId26" Type="http://schemas.openxmlformats.org/officeDocument/2006/relationships/slide" Target="slide29.xml"/><Relationship Id="rId27" Type="http://schemas.openxmlformats.org/officeDocument/2006/relationships/slide" Target="slide38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laser.wav"/><Relationship Id="rId4" Type="http://schemas.openxmlformats.org/officeDocument/2006/relationships/audio" Target="../media/applaus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533840" y="273384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Arial Black"/>
              </a:rPr>
              <a:t>КОЗАЦЬКА УКРАЇ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4533840" y="768240"/>
            <a:ext cx="46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 Antiqua"/>
              </a:rPr>
              <a:t>ІНТЕЛЕКТУАЛЬНА 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артинки по запросу &quot;козаки рисунки&quot;"/>
          <p:cNvPicPr/>
          <p:nvPr/>
        </p:nvPicPr>
        <p:blipFill>
          <a:blip r:embed="rId1"/>
          <a:stretch/>
        </p:blipFill>
        <p:spPr>
          <a:xfrm>
            <a:off x="146160" y="260280"/>
            <a:ext cx="4354560" cy="622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:\Робота\Малюнки\Цифри\девять.jpg"/>
          <p:cNvPicPr/>
          <p:nvPr/>
        </p:nvPicPr>
        <p:blipFill>
          <a:blip r:embed="rId2"/>
          <a:stretch/>
        </p:blipFill>
        <p:spPr>
          <a:xfrm>
            <a:off x="8077320" y="5742000"/>
            <a:ext cx="106668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63480" y="1123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авній тип верхнього одягу з дорогої шовкової тканини, переважно блакитного або зеленого кольо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20560" y="548172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ШУ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20560" y="4330800"/>
            <a:ext cx="5327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ЖУ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520560" y="3268800"/>
            <a:ext cx="5327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АП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50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9640" y="500688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554040" y="39164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ee7f2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5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2050920" y="3092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АП’ЯН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1979640" y="4156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Ч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979640" y="517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ЧЕРЕ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421280" y="1341360"/>
            <a:ext cx="63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Шкіряне взуття, яке нос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оз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4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520560" y="4005360"/>
            <a:ext cx="53247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ОР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20560" y="5084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ІТКУ-КОЛЬЧУ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БЕН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165320" y="1058760"/>
            <a:ext cx="797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Шаблю в мирний час носили рідко, хіба тільки на раду.                      Що тоді надівали поверх кафт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3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73" name="AutoShape 14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5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686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озацька ю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09680" y="50133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ЗАЦЬКА ТЕ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395280" y="3860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ГАЛ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95280" y="2708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cc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УЛІ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82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ТРАДИЦІЙНА Ї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63360" y="944640"/>
            <a:ext cx="8072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Страва із пшеничної і гречаної муки, туго замішена на овочевому відварі, молоці або сироват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28760" y="306864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ГАЛ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14360" y="503712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ИРІ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14360" y="4076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91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ТРАДИЦІЙНА Ї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3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95280" y="386064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Петербурзькій Академ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мистец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95280" y="4724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Київській Академ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мистец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Московській Академії мистецт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24000" y="1413000"/>
            <a:ext cx="68256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900000" y="148428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Де Т.Шевченко здобув художню освіту?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3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01" name="AutoShape 14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ТРАДИЦІЙНА Ї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Що із їжі брали козаки, відправляючись в похі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179280" y="2924280"/>
            <a:ext cx="806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ТЕТЕРЮ, КАШУ, СУШЕНІ ГАЛУШКИ З С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179280" y="5229360"/>
            <a:ext cx="806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РИ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79280" y="4076640"/>
            <a:ext cx="806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cc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МАСЛО, ОЛ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00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10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00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ТРАДИЦІЙНА Ї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ідвар із риби на квасолі, приправлений борошном і пш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12920" y="504360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Georgia"/>
              </a:rPr>
              <a:t>КОЗАЦЬКА ТЕ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395280" y="400536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Georgia"/>
              </a:rPr>
              <a:t>ЛОК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395280" y="2997360"/>
            <a:ext cx="51879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КУЛІ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324000" y="1413000"/>
            <a:ext cx="68256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1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ТРАДИЦІЙНА Ї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14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32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Я козак і ти коз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Я вояк і ти во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Щоб в бою стояти мужнь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 повинні бути дружн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 хоробрі воя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братими-</a:t>
            </a: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....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>
            <a:hlinkClick r:id="rId1" action="ppaction://hlinksldjump"/>
          </p:cNvPr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Я козак і ти коз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Я вояк і ти во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Щоб в бою стояти мужнь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 повинні бути дружн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 хоробрі воя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братими- </a:t>
            </a:r>
            <a:r>
              <a:rPr b="1" lang="uk-UA" sz="3600" spc="-1" strike="noStrike" u="sng">
                <a:solidFill>
                  <a:srgbClr val="cc3300"/>
                </a:solidFill>
                <a:uFillTx/>
                <a:latin typeface="Georgia"/>
              </a:rPr>
              <a:t>козаки</a:t>
            </a: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28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>
            <a:hlinkClick r:id="rId1" action="ppaction://hlinksldjump"/>
          </p:cNvPr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77840" y="5372280"/>
            <a:ext cx="3117960" cy="116820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Гра «Розсипан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>
            <a:hlinkClick r:id="rId2" action="ppaction://hlinksldjump"/>
          </p:cNvPr>
          <p:cNvSpPr/>
          <p:nvPr/>
        </p:nvSpPr>
        <p:spPr>
          <a:xfrm>
            <a:off x="421308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>
            <a:hlinkClick r:id="rId3" action="ppaction://hlinksldjump"/>
          </p:cNvPr>
          <p:cNvSpPr/>
          <p:nvPr/>
        </p:nvSpPr>
        <p:spPr>
          <a:xfrm>
            <a:off x="514836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>
            <a:hlinkClick r:id="rId4" action="ppaction://hlinksldjump"/>
          </p:cNvPr>
          <p:cNvSpPr/>
          <p:nvPr/>
        </p:nvSpPr>
        <p:spPr>
          <a:xfrm>
            <a:off x="608472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rId5" action="ppaction://hlinksldjump"/>
          </p:cNvPr>
          <p:cNvSpPr/>
          <p:nvPr/>
        </p:nvSpPr>
        <p:spPr>
          <a:xfrm>
            <a:off x="702144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6" action="ppaction://hlinksldjump"/>
          </p:cNvPr>
          <p:cNvSpPr/>
          <p:nvPr/>
        </p:nvSpPr>
        <p:spPr>
          <a:xfrm>
            <a:off x="421308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>
            <a:hlinkClick r:id="rId7" action="ppaction://hlinksldjump"/>
          </p:cNvPr>
          <p:cNvSpPr/>
          <p:nvPr/>
        </p:nvSpPr>
        <p:spPr>
          <a:xfrm>
            <a:off x="5148360" y="2206800"/>
            <a:ext cx="93636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>
            <a:hlinkClick r:id="rId8" action="ppaction://hlinksldjump"/>
          </p:cNvPr>
          <p:cNvSpPr/>
          <p:nvPr/>
        </p:nvSpPr>
        <p:spPr>
          <a:xfrm>
            <a:off x="608472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702144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>
            <a:hlinkClick r:id="rId10" action="ppaction://hlinksldjump"/>
          </p:cNvPr>
          <p:cNvSpPr/>
          <p:nvPr/>
        </p:nvSpPr>
        <p:spPr>
          <a:xfrm>
            <a:off x="421164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11" action="ppaction://hlinksldjump"/>
          </p:cNvPr>
          <p:cNvSpPr/>
          <p:nvPr/>
        </p:nvSpPr>
        <p:spPr>
          <a:xfrm>
            <a:off x="5148360" y="3357720"/>
            <a:ext cx="93636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12" action="ppaction://hlinksldjump"/>
          </p:cNvPr>
          <p:cNvSpPr/>
          <p:nvPr/>
        </p:nvSpPr>
        <p:spPr>
          <a:xfrm>
            <a:off x="608472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>
            <a:hlinkClick r:id="rId13" action="ppaction://hlinksldjump"/>
          </p:cNvPr>
          <p:cNvSpPr/>
          <p:nvPr/>
        </p:nvSpPr>
        <p:spPr>
          <a:xfrm>
            <a:off x="7020000" y="3357720"/>
            <a:ext cx="93672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>
            <a:hlinkClick r:id="rId14" action="ppaction://hlinksldjump"/>
          </p:cNvPr>
          <p:cNvSpPr/>
          <p:nvPr/>
        </p:nvSpPr>
        <p:spPr>
          <a:xfrm>
            <a:off x="4213080" y="4438800"/>
            <a:ext cx="93672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>
            <a:hlinkClick r:id="rId15" action="ppaction://hlinksldjump"/>
          </p:cNvPr>
          <p:cNvSpPr/>
          <p:nvPr/>
        </p:nvSpPr>
        <p:spPr>
          <a:xfrm>
            <a:off x="5148360" y="4438800"/>
            <a:ext cx="93636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>
            <a:hlinkClick r:id="rId16" action="ppaction://hlinksldjump"/>
          </p:cNvPr>
          <p:cNvSpPr/>
          <p:nvPr/>
        </p:nvSpPr>
        <p:spPr>
          <a:xfrm>
            <a:off x="608472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2">
            <a:hlinkClick r:id="rId17" action="ppaction://hlinksldjump"/>
          </p:cNvPr>
          <p:cNvSpPr/>
          <p:nvPr/>
        </p:nvSpPr>
        <p:spPr>
          <a:xfrm>
            <a:off x="7021440" y="4438800"/>
            <a:ext cx="93672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179280" y="4294080"/>
            <a:ext cx="3117960" cy="11685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Гра «Закінчи речен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>
            <a:hlinkClick r:id="rId18" action="ppaction://hlinksldjump"/>
          </p:cNvPr>
          <p:cNvSpPr/>
          <p:nvPr/>
        </p:nvSpPr>
        <p:spPr>
          <a:xfrm>
            <a:off x="421164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7">
            <a:hlinkClick r:id="rId19" action="ppaction://hlinksldjump"/>
          </p:cNvPr>
          <p:cNvSpPr/>
          <p:nvPr/>
        </p:nvSpPr>
        <p:spPr>
          <a:xfrm>
            <a:off x="514656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>
            <a:hlinkClick r:id="rId20" action="ppaction://hlinksldjump"/>
          </p:cNvPr>
          <p:cNvSpPr/>
          <p:nvPr/>
        </p:nvSpPr>
        <p:spPr>
          <a:xfrm>
            <a:off x="608328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>
            <a:hlinkClick r:id="rId21" action="ppaction://hlinksldjump"/>
          </p:cNvPr>
          <p:cNvSpPr/>
          <p:nvPr/>
        </p:nvSpPr>
        <p:spPr>
          <a:xfrm>
            <a:off x="702000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1"/>
          <p:cNvSpPr/>
          <p:nvPr/>
        </p:nvSpPr>
        <p:spPr>
          <a:xfrm>
            <a:off x="179280" y="3214800"/>
            <a:ext cx="3117960" cy="11682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ТРАДИЦІЙНА Ї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2"/>
          <p:cNvSpPr/>
          <p:nvPr/>
        </p:nvSpPr>
        <p:spPr>
          <a:xfrm>
            <a:off x="179280" y="2133720"/>
            <a:ext cx="3117960" cy="11682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ДЯ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3"/>
          <p:cNvSpPr/>
          <p:nvPr/>
        </p:nvSpPr>
        <p:spPr>
          <a:xfrm>
            <a:off x="179280" y="1054080"/>
            <a:ext cx="3117960" cy="116856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ІСТО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>
            <a:hlinkClick r:id="rId22" action="ppaction://hlinksldjump"/>
          </p:cNvPr>
          <p:cNvSpPr/>
          <p:nvPr/>
        </p:nvSpPr>
        <p:spPr>
          <a:xfrm>
            <a:off x="327672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>
            <a:hlinkClick r:id="rId23" action="ppaction://hlinksldjump"/>
          </p:cNvPr>
          <p:cNvSpPr/>
          <p:nvPr/>
        </p:nvSpPr>
        <p:spPr>
          <a:xfrm>
            <a:off x="3274920" y="2206800"/>
            <a:ext cx="936720" cy="93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6">
            <a:hlinkClick r:id="rId24" action="ppaction://hlinksldjump"/>
          </p:cNvPr>
          <p:cNvSpPr/>
          <p:nvPr/>
        </p:nvSpPr>
        <p:spPr>
          <a:xfrm>
            <a:off x="3276720" y="3357720"/>
            <a:ext cx="936360" cy="93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7">
            <a:hlinkClick r:id="rId25" action="ppaction://hlinksldjump"/>
          </p:cNvPr>
          <p:cNvSpPr/>
          <p:nvPr/>
        </p:nvSpPr>
        <p:spPr>
          <a:xfrm>
            <a:off x="3276720" y="4438800"/>
            <a:ext cx="936360" cy="9363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8">
            <a:hlinkClick r:id="rId26" action="ppaction://hlinksldjump"/>
          </p:cNvPr>
          <p:cNvSpPr/>
          <p:nvPr/>
        </p:nvSpPr>
        <p:spPr>
          <a:xfrm>
            <a:off x="327492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27" action="ppaction://hlinksldjump"/>
          </p:cNvPr>
          <p:cNvSpPr/>
          <p:nvPr/>
        </p:nvSpPr>
        <p:spPr>
          <a:xfrm>
            <a:off x="173160" y="96840"/>
            <a:ext cx="3319200" cy="811080"/>
          </a:xfrm>
          <a:prstGeom prst="cube">
            <a:avLst>
              <a:gd name="adj" fmla="val 25000"/>
            </a:avLst>
          </a:prstGeom>
          <a:solidFill>
            <a:srgbClr val="ff505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Експрес-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0" dur="50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26560" y="1412640"/>
            <a:ext cx="8075880" cy="23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країно, не бійся бід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і загарбників, злої орд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і чужої важкої ру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о тебе бережут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>
            <a:hlinkClick r:id="rId1" action="ppaction://hlinksldjump"/>
          </p:cNvPr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26560" y="1412640"/>
            <a:ext cx="8075880" cy="23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країно, не бійся бід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і загарбників, злої орд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і чужої важкої ру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о тебе бережуть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Georgia"/>
              </a:rPr>
              <a:t>козак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3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16000" y="141300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ідна наша Украї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 дам впасти на колі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ахищу від злих ат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дарма ж бо 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>
            <a:hlinkClick r:id="rId1" action="ppaction://hlinksldjump"/>
          </p:cNvPr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7705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ідна наша Украї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 дам впасти на колі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ахищу від злих ат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дарма ж бо я -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Georgia"/>
              </a:rPr>
              <a:t>козак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4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злічити коза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ужніх, славних хлопці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чать між зелені степі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Швидко 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>
            <a:hlinkClick r:id="rId1" action="ppaction://hlinksldjump"/>
          </p:cNvPr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злічити коза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ужніх, славних хлопці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чать між зелені степі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Швидко </a:t>
            </a:r>
            <a:r>
              <a:rPr b="1" lang="uk-UA" sz="3600" spc="-1" strike="noStrike" u="sng">
                <a:solidFill>
                  <a:srgbClr val="cc3300"/>
                </a:solidFill>
                <a:uFillTx/>
                <a:latin typeface="Georgia"/>
              </a:rPr>
              <a:t>запорожці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5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848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нає кожен, знає в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Хто з оселедцем – той коз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ле ж не в оселедці річ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озак це той, хто любит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>
            <a:hlinkClick r:id="rId1" action="ppaction://hlinksldjump"/>
          </p:cNvPr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15640" y="1413000"/>
            <a:ext cx="7777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нає кожен, знає в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Хто з оселедцем – той коз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ле ж не в оселедці річ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озак це той, хто любить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Georgia"/>
              </a:rPr>
              <a:t>Січ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69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Закінчи рече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різь, нам, свою, передають, вдачу, віки, коз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>
            <a:hlinkClick r:id="rId1" action="ppaction://hlinksldjump"/>
          </p:cNvPr>
          <p:cNvSpPr/>
          <p:nvPr/>
        </p:nvSpPr>
        <p:spPr>
          <a:xfrm>
            <a:off x="730872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різь, нам, свою, передають, вдачу, віки, коз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943560" y="3068640"/>
            <a:ext cx="7259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“</a:t>
            </a:r>
            <a:r>
              <a:rPr b="1" lang="ru-RU" sz="4400" spc="-1" strike="noStrike">
                <a:solidFill>
                  <a:srgbClr val="cc3300"/>
                </a:solidFill>
                <a:latin typeface="Georgia"/>
              </a:rPr>
              <a:t>Свою вдачу крізь ві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eorgia"/>
              </a:rPr>
              <a:t>передають нам козаки</a:t>
            </a: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81" name="AutoShape 13"/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4"/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Представник козацького ст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79" name="AutoShape 5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33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523800" y="30639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З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20560" y="507996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КРАЇ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544680" y="407664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ЗАПОРОЖ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ІСТО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есь, рід, родина, ми, одна, наш, козаки, міцний, і, слав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есь, рід, родина, ми, одна, наш, козаки, міцний, і, слав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290" name="AutoShape 13"/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204840" y="3524400"/>
            <a:ext cx="883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“</a:t>
            </a:r>
            <a:r>
              <a:rPr b="1" lang="ru-RU" sz="4400" spc="-1" strike="noStrike">
                <a:solidFill>
                  <a:srgbClr val="cc3300"/>
                </a:solidFill>
                <a:latin typeface="Georgia"/>
              </a:rPr>
              <a:t>Ми, козаки, одна роди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eorgia"/>
              </a:rPr>
              <a:t>Міцний і славний весь наш рід.</a:t>
            </a: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різь, вам, слава, непереможні, козаки, лине, 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різь, вам, слава, непереможні, козаки, лине, 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01" name="AutoShape 13"/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14"/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760680" y="2997360"/>
            <a:ext cx="76179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Georgia"/>
              </a:rPr>
              <a:t>“</a:t>
            </a: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Непереможні коз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Вам лине слава крізь віки.</a:t>
            </a:r>
            <a:r>
              <a:rPr b="1" lang="uk-UA" sz="4000" spc="-1" strike="noStrike">
                <a:solidFill>
                  <a:srgbClr val="cc33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країні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ідній, живуть, в, козаки, і, нас, нин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8281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країні, на, рідній, живуть, в, козаки, і, нас, нин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12" name="AutoShape 13"/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4"/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845280" y="2997360"/>
            <a:ext cx="68925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Georgia"/>
              </a:rPr>
              <a:t>“</a:t>
            </a: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Козаки живуть і ни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В нас, на рідній Україні.</a:t>
            </a:r>
            <a:r>
              <a:rPr b="1" lang="uk-UA" sz="4000" spc="-1" strike="noStrike">
                <a:solidFill>
                  <a:srgbClr val="cc3300"/>
                </a:solidFill>
                <a:latin typeface="Georgia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шануймо, їх, наш, край, бережуть, від, лих, тож, щи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7380360" y="5950080"/>
            <a:ext cx="1511280" cy="71892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Правиль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66"/>
                </a:solidFill>
                <a:latin typeface="Comic Sans MS"/>
              </a:rPr>
              <a:t>відпові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шануймо, їх, наш, край, бережуть, від, лих, тож, щи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179280" y="1341360"/>
            <a:ext cx="682560" cy="7192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323" name="AutoShape 13"/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4"/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Georgia"/>
              </a:rPr>
              <a:t>Гра “Розсипанк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65040" y="3108240"/>
            <a:ext cx="71042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Georgia"/>
              </a:rPr>
              <a:t>“</a:t>
            </a:r>
            <a:r>
              <a:rPr b="1" lang="uk-UA" sz="3600" spc="-1" strike="noStrike">
                <a:solidFill>
                  <a:srgbClr val="cc3300"/>
                </a:solidFill>
                <a:latin typeface="Georgia"/>
              </a:rPr>
              <a:t>Край наш бережуть від л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Georgia"/>
              </a:rPr>
              <a:t>Тож шануймо щиро їх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-828720" y="1728720"/>
            <a:ext cx="1080144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Georgia"/>
              </a:rPr>
              <a:t>Експрес-тес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Що означає слово "козак"?     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Вільний вої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йвідоміша козацька страва? 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Кулі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йстарший серед козаків?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Гетьман</a:t>
            </a: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йвідоміший козацький танок?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Гоп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Організація українського козацтва?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Сі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броєносець у козацької старшини?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Джура</a:t>
            </a: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Церковне свято козаків?                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«Широкі, як чорне море« – це…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Шаров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му не дозволялося жити на території                                     Запорізької Січі                                                                         </a:t>
            </a:r>
            <a:r>
              <a:rPr b="1" lang="uk-UA" sz="2000" spc="-1" strike="noStrike">
                <a:solidFill>
                  <a:srgbClr val="cc0000"/>
                </a:solidFill>
                <a:latin typeface="Georgia"/>
              </a:rPr>
              <a:t>Жінкам</a:t>
            </a: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4716360" y="1989000"/>
            <a:ext cx="40388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5"/>
          <p:cNvSpPr/>
          <p:nvPr/>
        </p:nvSpPr>
        <p:spPr>
          <a:xfrm>
            <a:off x="6708600" y="1773360"/>
            <a:ext cx="2303640" cy="431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6700680" y="2305080"/>
            <a:ext cx="2303640" cy="431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6676920" y="2873520"/>
            <a:ext cx="2303640" cy="431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6661080" y="3452760"/>
            <a:ext cx="2303640" cy="4320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0"/>
          <p:cNvSpPr/>
          <p:nvPr/>
        </p:nvSpPr>
        <p:spPr>
          <a:xfrm>
            <a:off x="6651720" y="4467240"/>
            <a:ext cx="2303280" cy="4316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1"/>
          <p:cNvSpPr/>
          <p:nvPr/>
        </p:nvSpPr>
        <p:spPr>
          <a:xfrm>
            <a:off x="6670800" y="3933720"/>
            <a:ext cx="2303280" cy="43200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2"/>
          <p:cNvSpPr/>
          <p:nvPr/>
        </p:nvSpPr>
        <p:spPr>
          <a:xfrm>
            <a:off x="6659640" y="5033880"/>
            <a:ext cx="2303280" cy="4320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3"/>
          <p:cNvSpPr/>
          <p:nvPr/>
        </p:nvSpPr>
        <p:spPr>
          <a:xfrm>
            <a:off x="6735600" y="1268280"/>
            <a:ext cx="2303640" cy="4320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676920" y="5950080"/>
            <a:ext cx="2303640" cy="43164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1908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2"/>
          <p:cNvGrpSpPr/>
          <p:nvPr/>
        </p:nvGrpSpPr>
        <p:grpSpPr>
          <a:xfrm>
            <a:off x="8028000" y="600120"/>
            <a:ext cx="863640" cy="576360"/>
            <a:chOff x="8028000" y="600120"/>
            <a:chExt cx="863640" cy="576360"/>
          </a:xfrm>
        </p:grpSpPr>
        <p:sp>
          <p:nvSpPr>
            <p:cNvPr id="341" name="AutoShape 13"/>
            <p:cNvSpPr/>
            <p:nvPr/>
          </p:nvSpPr>
          <p:spPr>
            <a:xfrm>
              <a:off x="8028000" y="600120"/>
              <a:ext cx="863640" cy="576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8213040" y="862200"/>
              <a:ext cx="369720" cy="262080"/>
            </a:xfrm>
            <a:prstGeom prst="leftArrow">
              <a:avLst>
                <a:gd name="adj1" fmla="val 50000"/>
                <a:gd name="adj2" fmla="val 35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19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2"/>
          <p:cNvSpPr txBox="1"/>
          <p:nvPr/>
        </p:nvSpPr>
        <p:spPr>
          <a:xfrm>
            <a:off x="684360" y="1844640"/>
            <a:ext cx="8280360" cy="29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І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6"/>
          <p:cNvSpPr/>
          <p:nvPr/>
        </p:nvSpPr>
        <p:spPr>
          <a:xfrm>
            <a:off x="539640" y="5013360"/>
            <a:ext cx="51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Georgia"/>
              </a:rPr>
              <a:t>КУРІННИЙ ОТА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39640" y="398952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Georgia"/>
              </a:rPr>
              <a:t>КОШОВИ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39640" y="2924280"/>
            <a:ext cx="51879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Georgia"/>
              </a:rPr>
              <a:t>ВІЙСЬКОВИЙ СУДД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1341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eorgia"/>
              </a:rPr>
              <a:t>Хто очолював військову запорізьку організаці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179280" y="1341360"/>
            <a:ext cx="72072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93" name="AutoShape 14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5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108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ІСТО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16000" y="1268280"/>
            <a:ext cx="763272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лово, що означало столицю усього запорозького козац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31720" y="5335560"/>
            <a:ext cx="518472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І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539640" y="4292640"/>
            <a:ext cx="518796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І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39640" y="3213000"/>
            <a:ext cx="5187960" cy="936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УР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50920" y="1268280"/>
            <a:ext cx="720720" cy="6480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03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ІСТО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ff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Центральний орган                Запорізької Січ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14440" y="5157720"/>
            <a:ext cx="518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І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44680" y="4016520"/>
            <a:ext cx="51879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І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544680" y="2924280"/>
            <a:ext cx="51879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ИЇ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79280" y="1413000"/>
            <a:ext cx="72072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13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ІСТО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26560" y="1015560"/>
            <a:ext cx="793116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ійськовий центр запорізького козацтва, що існував за порогами Дніпра із середини 16 ст. до 1775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68360" y="5299200"/>
            <a:ext cx="5184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ПРИДНІПРОВ’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4160880"/>
            <a:ext cx="51879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ЗАПОРІЗЬКА СІ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68360" y="3078000"/>
            <a:ext cx="51879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00cc9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УКРАЇ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324000" y="1341360"/>
            <a:ext cx="72072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23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ІСТО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61840" y="944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ин із найдавніших елементів одягу, який слугував єдиним видом одягу для дівчат та хлопців до досягнення певного ві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9640" y="5300640"/>
            <a:ext cx="5324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ОЯ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0560" y="422100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ЛА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39640" y="30812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e7f2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ОР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32" name="AutoShape 14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ff33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5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96960" y="13028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ов’язковий елемент  одягу українського запорізького козац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542880" y="5187960"/>
            <a:ext cx="53244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</a:rPr>
              <a:t>ШАРОВ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42880" y="4005360"/>
            <a:ext cx="5327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</a:rPr>
              <a:t>ДИ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9640" y="2852640"/>
            <a:ext cx="5327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2"/>
              </a:gs>
              <a:gs pos="50000">
                <a:srgbClr val="ffffcc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</a:rPr>
              <a:t>КА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79280" y="1484280"/>
            <a:ext cx="682560" cy="71928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7885080" y="5877000"/>
            <a:ext cx="1008000" cy="792000"/>
            <a:chOff x="7885080" y="5877000"/>
            <a:chExt cx="1008000" cy="792000"/>
          </a:xfrm>
        </p:grpSpPr>
        <p:sp>
          <p:nvSpPr>
            <p:cNvPr id="141" name="AutoShape 13">
              <a:hlinkClick r:id="rId1" action="ppaction://hlinksldjump"/>
            </p:cNvPr>
            <p:cNvSpPr/>
            <p:nvPr/>
          </p:nvSpPr>
          <p:spPr>
            <a:xfrm>
              <a:off x="7885080" y="5877000"/>
              <a:ext cx="1008000" cy="792000"/>
            </a:xfrm>
            <a:prstGeom prst="cube">
              <a:avLst>
                <a:gd name="adj" fmla="val 25000"/>
              </a:avLst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4">
              <a:hlinkClick r:id="rId2" action="ppaction://hlinksldjump"/>
            </p:cNvPr>
            <p:cNvSpPr/>
            <p:nvPr/>
          </p:nvSpPr>
          <p:spPr>
            <a:xfrm>
              <a:off x="8101080" y="6237360"/>
              <a:ext cx="431640" cy="360360"/>
            </a:xfrm>
            <a:prstGeom prst="leftArrow">
              <a:avLst>
                <a:gd name="adj1" fmla="val 50000"/>
                <a:gd name="adj2" fmla="val 2994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eorgia"/>
              </a:rPr>
              <a:t>ОДЯ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58:11Z</dcterms:created>
  <dc:creator>Zver</dc:creator>
  <dc:description/>
  <dc:language>en-US</dc:language>
  <cp:lastModifiedBy>Пользователь Windows</cp:lastModifiedBy>
  <dcterms:modified xsi:type="dcterms:W3CDTF">2021-02-09T12:55:56Z</dcterms:modified>
  <cp:revision>51</cp:revision>
  <dc:subject/>
  <dc:title>Слайд 1</dc:title>
</cp:coreProperties>
</file>