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png" ContentType="image/png"/>
  <Override PartName="/ppt/media/image6.gif" ContentType="image/gif"/>
  <Override PartName="/ppt/media/image8.gif" ContentType="image/gif"/>
  <Override PartName="/ppt/media/image18.jpeg" ContentType="image/jpeg"/>
  <Override PartName="/ppt/media/image7.png" ContentType="image/png"/>
  <Override PartName="/ppt/media/image1.jpeg" ContentType="image/jpeg"/>
  <Override PartName="/ppt/media/image10.jpeg" ContentType="image/jpeg"/>
  <Override PartName="/ppt/media/image5.png" ContentType="image/png"/>
  <Override PartName="/ppt/media/image24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13.jpeg" ContentType="image/jpeg"/>
  <Override PartName="/ppt/media/image20.gif" ContentType="image/gif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88A9-114A-4EFC-9EF8-CDB1262B5C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696C-A8B2-4C2F-B860-B0B84A7736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0CE2-4439-4C5A-8A98-AD91BE998C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1BCA-7428-4A97-9846-F64B014BE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CD98-0656-4740-8ED2-A7DEF07E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CD8C-89B6-4838-B61C-C044F0E5B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B607-F9D6-4DD1-B847-651EDB196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6AB9-C306-4D5F-B91D-8C3071D1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EAD9-CFCE-4937-8F08-D528FB36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ECDC-1F61-41C1-AC6D-2F498AB7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9660-EC2B-4F25-8FF4-B756403F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76A4-44BF-4529-A144-E8F866B7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22E3-FF43-4CFC-AC47-68868708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B8E3-3433-4EE6-AD4E-FFF9182C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B149-3424-4A7E-B761-936AEF45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E89D-0DDC-442C-813D-1BB624533C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:\Users\Ира\Pictures\Desktop\Новая папка\clipart-borders-free-chocolate-5.jpg"/>
          <p:cNvPicPr/>
          <p:nvPr/>
        </p:nvPicPr>
        <p:blipFill>
          <a:blip r:embed="rId1"/>
          <a:srcRect l="6517" t="7530" r="5686" b="85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380880" y="1382400"/>
            <a:ext cx="7848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660033"/>
                </a:solidFill>
                <a:latin typeface="Times New Roman"/>
              </a:rPr>
              <a:t>Шмагайло Ірина Миколаї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0033"/>
                </a:solidFill>
                <a:latin typeface="Times New Roman"/>
              </a:rPr>
              <a:t>вчи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i="1" lang="ru-RU" sz="1800" spc="-1" strike="noStrike">
                <a:solidFill>
                  <a:srgbClr val="660033"/>
                </a:solidFill>
                <a:latin typeface="Times New Roman"/>
              </a:rPr>
              <a:t>зарубіжної літератур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Times New Roman"/>
              </a:rPr>
              <a:t>Дубіївської ЗОШ І-ІІІ ступені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Times New Roman"/>
              </a:rPr>
              <a:t>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Лента лицом вверх 4"/>
          <p:cNvSpPr/>
          <p:nvPr/>
        </p:nvSpPr>
        <p:spPr>
          <a:xfrm>
            <a:off x="0" y="152280"/>
            <a:ext cx="9144000" cy="990720"/>
          </a:xfrm>
          <a:custGeom>
            <a:avLst/>
            <a:gdLst>
              <a:gd name="textAreaLeft" fmla="*/ 1143000 w 9144000"/>
              <a:gd name="textAreaRight" fmla="*/ 8001000 w 9144000"/>
              <a:gd name="textAreaTop" fmla="*/ 0 h 990720"/>
              <a:gd name="textAreaBottom" fmla="*/ 825840 h 990720"/>
            </a:gdLst>
            <a:ahLst/>
            <a:rect l="textAreaLeft" t="textAreaTop" r="textAreaRight" b="textAreaBottom"/>
            <a:pathLst>
              <a:path w="21600" h="21600">
                <a:moveTo>
                  <a:pt x="5400" y="18000"/>
                </a:moveTo>
                <a:lnTo>
                  <a:pt x="5400" y="20700"/>
                </a:lnTo>
                <a:cubicBezTo>
                  <a:pt x="5400" y="21150"/>
                  <a:pt x="4980" y="21600"/>
                  <a:pt x="45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2700" y="3600"/>
                </a:lnTo>
                <a:lnTo>
                  <a:pt x="2700" y="900"/>
                </a:lnTo>
                <a:cubicBezTo>
                  <a:pt x="2700" y="450"/>
                  <a:pt x="3120" y="0"/>
                  <a:pt x="3540" y="0"/>
                </a:cubicBezTo>
                <a:lnTo>
                  <a:pt x="18060" y="0"/>
                </a:lnTo>
                <a:cubicBezTo>
                  <a:pt x="18480" y="0"/>
                  <a:pt x="18900" y="450"/>
                  <a:pt x="18900" y="900"/>
                </a:cubicBezTo>
                <a:lnTo>
                  <a:pt x="189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7040" y="21600"/>
                </a:lnTo>
                <a:cubicBezTo>
                  <a:pt x="16620" y="21600"/>
                  <a:pt x="16200" y="21150"/>
                  <a:pt x="16200" y="20700"/>
                </a:cubicBezTo>
                <a:lnTo>
                  <a:pt x="16200" y="18000"/>
                </a:lnTo>
                <a:close/>
              </a:path>
              <a:path fill="darkenLess" w="21600" h="21600">
                <a:moveTo>
                  <a:pt x="5400" y="18000"/>
                </a:moveTo>
                <a:lnTo>
                  <a:pt x="5400" y="20700"/>
                </a:lnTo>
                <a:cubicBezTo>
                  <a:pt x="5400" y="20250"/>
                  <a:pt x="4980" y="19800"/>
                  <a:pt x="4560" y="19800"/>
                </a:cubicBezTo>
                <a:lnTo>
                  <a:pt x="3540" y="19800"/>
                </a:lnTo>
                <a:cubicBezTo>
                  <a:pt x="3120" y="19800"/>
                  <a:pt x="2700" y="19350"/>
                  <a:pt x="2700" y="18900"/>
                </a:cubicBezTo>
                <a:cubicBezTo>
                  <a:pt x="2700" y="18450"/>
                  <a:pt x="3120" y="18000"/>
                  <a:pt x="3540" y="18000"/>
                </a:cubicBezTo>
                <a:close/>
              </a:path>
              <a:path fill="darkenLess" w="21600" h="21600">
                <a:moveTo>
                  <a:pt x="16200" y="18000"/>
                </a:moveTo>
                <a:lnTo>
                  <a:pt x="16200" y="20700"/>
                </a:lnTo>
                <a:cubicBezTo>
                  <a:pt x="16200" y="20250"/>
                  <a:pt x="16620" y="19800"/>
                  <a:pt x="17040" y="19800"/>
                </a:cubicBezTo>
                <a:lnTo>
                  <a:pt x="18060" y="19800"/>
                </a:lnTo>
                <a:cubicBezTo>
                  <a:pt x="18480" y="19800"/>
                  <a:pt x="18900" y="19350"/>
                  <a:pt x="18900" y="18900"/>
                </a:cubicBezTo>
                <a:cubicBezTo>
                  <a:pt x="18900" y="18450"/>
                  <a:pt x="18480" y="18000"/>
                  <a:pt x="18060" y="18000"/>
                </a:cubicBezTo>
                <a:close/>
              </a:path>
              <a:path fill="darkenLess" w="21600" h="21600">
                <a:moveTo>
                  <a:pt x="2700" y="18900"/>
                </a:moveTo>
                <a:lnTo>
                  <a:pt x="2700" y="3600"/>
                </a:lnTo>
              </a:path>
              <a:path fill="darkenLess" w="21600" h="21600">
                <a:moveTo>
                  <a:pt x="18900" y="18900"/>
                </a:moveTo>
                <a:lnTo>
                  <a:pt x="18900" y="3600"/>
                </a:lnTo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cap="rnd"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Georgia"/>
              </a:rPr>
              <a:t>В</a:t>
            </a:r>
            <a:r>
              <a:rPr b="1" lang="uk-UA" sz="1800" spc="-1" strike="noStrike">
                <a:solidFill>
                  <a:srgbClr val="990000"/>
                </a:solidFill>
                <a:latin typeface="Georgia"/>
              </a:rPr>
              <a:t>ІДДІЛ ОСВІТИ ЧЕРКАСЬКОЇ РАЙОННОЇ ДЕРЖАВНОЇ АДМІНІСТРА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Результат пошуку зображень за запитом &quot;анімаційні шоколадна фабрика&quot;"/>
          <p:cNvPicPr/>
          <p:nvPr/>
        </p:nvPicPr>
        <p:blipFill>
          <a:blip r:embed="rId2"/>
          <a:stretch/>
        </p:blipFill>
        <p:spPr>
          <a:xfrm>
            <a:off x="380880" y="2610000"/>
            <a:ext cx="2336760" cy="350496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7" descr=""/>
          <p:cNvPicPr/>
          <p:nvPr/>
        </p:nvPicPr>
        <p:blipFill>
          <a:blip r:embed="rId3"/>
          <a:stretch/>
        </p:blipFill>
        <p:spPr>
          <a:xfrm>
            <a:off x="1047600" y="1225440"/>
            <a:ext cx="7029720" cy="90828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8" descr=""/>
          <p:cNvPicPr/>
          <p:nvPr/>
        </p:nvPicPr>
        <p:blipFill>
          <a:blip r:embed="rId4"/>
          <a:stretch/>
        </p:blipFill>
        <p:spPr>
          <a:xfrm>
            <a:off x="1090440" y="1884240"/>
            <a:ext cx="7059960" cy="2522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C:\Users\Ира\Pictures\Desktop\Новая папка\clipart-borders-free-chocolate-5.jpg"/>
          <p:cNvPicPr/>
          <p:nvPr/>
        </p:nvPicPr>
        <p:blipFill>
          <a:blip r:embed="rId1"/>
          <a:srcRect l="7313" t="7530" r="6482" b="85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937040" y="2514240"/>
            <a:ext cx="321624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дівчинка, що постійно жує жуйку, встановила світовий рекорд – жує одну жуйку впродовж трьох місяців. В перекладі з англійської violet має значення: фіалка, фіолетовий колір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Users\Ира\Pictures\Desktop\kinopoisk.ru-Charlie-and-the-Chocolate-Factory-222184--w--1280.jpg"/>
          <p:cNvPicPr/>
          <p:nvPr/>
        </p:nvPicPr>
        <p:blipFill>
          <a:blip r:embed="rId2"/>
          <a:srcRect l="4184" t="0" r="0" b="0"/>
          <a:stretch/>
        </p:blipFill>
        <p:spPr>
          <a:xfrm>
            <a:off x="920880" y="1752480"/>
            <a:ext cx="4016160" cy="3353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0" name="TextBox 3"/>
          <p:cNvSpPr/>
          <p:nvPr/>
        </p:nvSpPr>
        <p:spPr>
          <a:xfrm>
            <a:off x="5105520" y="16048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Georgia"/>
              </a:rPr>
              <a:t>Віолета Борегар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C:\Users\Ира\Pictures\Desktop\Новая папка\clipart-borders-free-chocolate-5.jpg"/>
          <p:cNvPicPr/>
          <p:nvPr/>
        </p:nvPicPr>
        <p:blipFill>
          <a:blip r:embed="rId1"/>
          <a:srcRect l="7313" t="7530" r="6482" b="85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5028840" y="2514600"/>
            <a:ext cx="3156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        –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хлопчик, що з ранку до вечора дивиться телевізор, любитель гангстерських бойовиків. З англ.      «TV»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Users\Ира\Pictures\Desktop\charlie_and_the_chocolate_factory_2005_5342_wallpaper.jpg"/>
          <p:cNvPicPr/>
          <p:nvPr/>
        </p:nvPicPr>
        <p:blipFill>
          <a:blip r:embed="rId2"/>
          <a:srcRect l="3836" t="0" r="4110" b="0"/>
          <a:stretch/>
        </p:blipFill>
        <p:spPr>
          <a:xfrm>
            <a:off x="1001880" y="1600200"/>
            <a:ext cx="3951000" cy="3433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4" name="TextBox 3"/>
          <p:cNvSpPr/>
          <p:nvPr/>
        </p:nvSpPr>
        <p:spPr>
          <a:xfrm>
            <a:off x="5715000" y="2057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Georgia"/>
              </a:rPr>
              <a:t>Майк Тів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C:\Users\Ира\Pictures\Desktop\Новая папка\clipart-borders-free-chocolate-5.jpg"/>
          <p:cNvPicPr/>
          <p:nvPr/>
        </p:nvPicPr>
        <p:blipFill>
          <a:blip r:embed="rId1"/>
          <a:srcRect l="7313" t="7530" r="6482" b="85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906800" y="2437920"/>
            <a:ext cx="3276720" cy="18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–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головний герой повісті. Чарлі – «благородний король»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C:\Users\Ира\Pictures\Desktop\9393.jpg"/>
          <p:cNvPicPr/>
          <p:nvPr/>
        </p:nvPicPr>
        <p:blipFill>
          <a:blip r:embed="rId2"/>
          <a:srcRect l="5592" t="0" r="3896" b="0"/>
          <a:stretch/>
        </p:blipFill>
        <p:spPr>
          <a:xfrm>
            <a:off x="990720" y="1752480"/>
            <a:ext cx="4068720" cy="3048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8" name="TextBox 3"/>
          <p:cNvSpPr/>
          <p:nvPr/>
        </p:nvSpPr>
        <p:spPr>
          <a:xfrm>
            <a:off x="5638680" y="19810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Georgia"/>
              </a:rPr>
              <a:t>Чарлі Бакет</a:t>
            </a:r>
            <a:r>
              <a:rPr b="0" lang="ru-RU" sz="2400" spc="-1" strike="noStrike">
                <a:solidFill>
                  <a:srgbClr val="99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C:\Users\Ира\Pictures\Desktop\Новая папка\clipart-borders-free-chocolate-5.jpg"/>
          <p:cNvPicPr/>
          <p:nvPr/>
        </p:nvPicPr>
        <p:blipFill>
          <a:blip r:embed="rId1"/>
          <a:srcRect l="7313" t="7530" r="6482" b="85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294920" y="1905120"/>
            <a:ext cx="6899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Залишився тільки Чарл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2. Ш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коладна фабрика Чарл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3. Інші діти ідуть додо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4. Майка Тіві передають по телебаченн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5. Телевізійно-шоколадний це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6. Верука в горіховому цех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Прямоугольник 3" descr=""/>
          <p:cNvPicPr/>
          <p:nvPr/>
        </p:nvPicPr>
        <p:blipFill>
          <a:blip r:embed="rId2"/>
          <a:stretch/>
        </p:blipFill>
        <p:spPr>
          <a:xfrm>
            <a:off x="341280" y="633240"/>
            <a:ext cx="8521560" cy="1189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F:\кучеренко\Ыра\716891647.gif"/>
          <p:cNvPicPr/>
          <p:nvPr/>
        </p:nvPicPr>
        <p:blipFill>
          <a:blip r:embed="rId3"/>
          <a:stretch/>
        </p:blipFill>
        <p:spPr>
          <a:xfrm>
            <a:off x="887400" y="3460680"/>
            <a:ext cx="2143080" cy="2370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C:\Users\Ира\Pictures\Desktop\Новая папка\clipart-borders-free-chocolate-5.jpg"/>
          <p:cNvPicPr/>
          <p:nvPr/>
        </p:nvPicPr>
        <p:blipFill>
          <a:blip r:embed="rId1"/>
          <a:srcRect l="7313" t="7530" r="6482" b="85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75960" y="1066320"/>
            <a:ext cx="84582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uk-UA" sz="1800" spc="-1" strike="noStrike">
                <a:solidFill>
                  <a:srgbClr val="000000"/>
                </a:solidFill>
                <a:latin typeface="Georgia"/>
              </a:rPr>
              <a:t> –  </a:t>
            </a:r>
            <a:r>
              <a:rPr b="0" lang="uk-UA" sz="1800" spc="-1" strike="noStrike">
                <a:solidFill>
                  <a:srgbClr val="000000"/>
                </a:solidFill>
                <a:latin typeface="Georgia"/>
              </a:rPr>
              <a:t>Мені подобається Чарлі тим, що 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Georgia"/>
              </a:rPr>
              <a:t>                         –  </a:t>
            </a:r>
            <a:r>
              <a:rPr b="0" lang="uk-UA" sz="1800" spc="-1" strike="noStrike">
                <a:solidFill>
                  <a:srgbClr val="000000"/>
                </a:solidFill>
                <a:latin typeface="Georgia"/>
              </a:rPr>
              <a:t>Чарлі навчив мене  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Georgia"/>
              </a:rPr>
              <a:t>                         –   </a:t>
            </a:r>
            <a:r>
              <a:rPr b="0" lang="uk-UA" sz="1800" spc="-1" strike="noStrike">
                <a:solidFill>
                  <a:srgbClr val="000000"/>
                </a:solidFill>
                <a:latin typeface="Georgia"/>
              </a:rPr>
              <a:t>Чарлі нагадує мені (іншого героя з вивчених творів)….,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Georgia"/>
              </a:rPr>
              <a:t>                 </a:t>
            </a:r>
            <a:r>
              <a:rPr b="0" lang="uk-UA" sz="1800" spc="-1" strike="noStrike">
                <a:solidFill>
                  <a:srgbClr val="000000"/>
                </a:solidFill>
                <a:latin typeface="Georgia"/>
              </a:rPr>
              <a:t>тому що він 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Georgia"/>
              </a:rPr>
              <a:t>                         –   </a:t>
            </a:r>
            <a:r>
              <a:rPr b="0" lang="uk-UA" sz="1800" spc="-1" strike="noStrike">
                <a:solidFill>
                  <a:srgbClr val="000000"/>
                </a:solidFill>
                <a:latin typeface="Georgia"/>
              </a:rPr>
              <a:t>Герої «Чарлі і шоколадна фабрика» – це…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Georgia"/>
              </a:rPr>
              <a:t>                   –   </a:t>
            </a:r>
            <a:r>
              <a:rPr b="0" lang="uk-UA" sz="1800" spc="-1" strike="noStrike">
                <a:solidFill>
                  <a:srgbClr val="000000"/>
                </a:solidFill>
                <a:latin typeface="Georgia"/>
              </a:rPr>
              <a:t>Казка «Чарлі і шоколадна фабрика» популярна у світі, бо…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Прямоугольник 3" descr=""/>
          <p:cNvPicPr/>
          <p:nvPr/>
        </p:nvPicPr>
        <p:blipFill>
          <a:blip r:embed="rId2"/>
          <a:stretch/>
        </p:blipFill>
        <p:spPr>
          <a:xfrm>
            <a:off x="1225440" y="554040"/>
            <a:ext cx="6394680" cy="11955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6" descr="press_button-svg-hi.png"/>
          <p:cNvPicPr/>
          <p:nvPr/>
        </p:nvPicPr>
        <p:blipFill>
          <a:blip r:embed="rId3"/>
          <a:stretch/>
        </p:blipFill>
        <p:spPr>
          <a:xfrm>
            <a:off x="5029200" y="4800600"/>
            <a:ext cx="1397160" cy="104760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4" descr=""/>
          <p:cNvPicPr/>
          <p:nvPr/>
        </p:nvPicPr>
        <p:blipFill>
          <a:blip r:embed="rId4"/>
          <a:stretch/>
        </p:blipFill>
        <p:spPr>
          <a:xfrm>
            <a:off x="3260880" y="4900680"/>
            <a:ext cx="2085840" cy="817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C:\Users\Ира\Pictures\Desktop\Новая папка\clipart-borders-free-chocolate-5.jpg"/>
          <p:cNvPicPr/>
          <p:nvPr/>
        </p:nvPicPr>
        <p:blipFill>
          <a:blip r:embed="rId1"/>
          <a:srcRect l="7313" t="7530" r="6482" b="85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3344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 Всесвітня література в сучаснійшколі №7-8,2012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2. Дал Р.Золотой билет , или Чарли и шоколадная фабрика: пересказ из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английского. </a:t>
            </a:r>
            <a:r>
              <a:rPr b="0" lang="uk-UA" sz="1400" spc="-1" strike="noStrike">
                <a:solidFill>
                  <a:srgbClr val="000000"/>
                </a:solidFill>
                <a:latin typeface="Georgia"/>
              </a:rPr>
              <a:t>С.Кибирский, Н.Матреницкая. Иллюстрации В.Мочалов. Стихи А.Усаче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3. http://znaimo.com.u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0" lang="uk-UA" sz="1400" spc="-1" strike="noStrike">
                <a:solidFill>
                  <a:srgbClr val="000000"/>
                </a:solidFill>
                <a:latin typeface="Georgia"/>
              </a:rPr>
              <a:t>4. Вікторова Н.О. Англійська літературна казка епохи постмодернізму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Georgia"/>
              </a:rPr>
              <a:t>Автореферат          дисертації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uk-UA" sz="1400" spc="-1" strike="noStrike">
                <a:solidFill>
                  <a:srgbClr val="000000"/>
                </a:solidFill>
                <a:latin typeface="Georgia"/>
              </a:rPr>
              <a:t>5. Караваєва Н.О. Світ дитинства у творах сучасних англійських письменників (Р. Дал,  Й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Georgia"/>
              </a:rPr>
              <a:t>Колфер, Д. Джойс, Д. Ролінг) – Казань, КФ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uk-UA" sz="1400" spc="-1" strike="noStrike">
                <a:solidFill>
                  <a:srgbClr val="000000"/>
                </a:solidFill>
                <a:latin typeface="Georgia"/>
              </a:rPr>
              <a:t>6. Малимон Людмила Михайлівна. Урок світової літератури (за новою програмою) у  5 класі .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Georgia"/>
              </a:rPr>
              <a:t>«РоальдДал «Чарлі і шоколадна фабрика»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eorgia"/>
              </a:rPr>
              <a:t>                </a:t>
            </a:r>
            <a:r>
              <a:rPr b="0" lang="uk-UA" sz="1400" spc="-1" strike="noStrike">
                <a:solidFill>
                  <a:srgbClr val="000000"/>
                </a:solidFill>
                <a:latin typeface="Georgia"/>
              </a:rPr>
              <a:t>7. Электронная библиотека RoyalLib.Ru, 2010-2013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eorgia"/>
              </a:rPr>
              <a:t>                </a:t>
            </a:r>
            <a:r>
              <a:rPr b="0" lang="uk-UA" sz="1400" spc="-1" strike="noStrike">
                <a:solidFill>
                  <a:srgbClr val="000000"/>
                </a:solidFill>
                <a:latin typeface="Georgia"/>
              </a:rPr>
              <a:t>8. Книга «Чарли и шоколадная фабрика» Роальда Даля, «Росмэн-Пресс», 2005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Прямоугольник 3" descr=""/>
          <p:cNvPicPr/>
          <p:nvPr/>
        </p:nvPicPr>
        <p:blipFill>
          <a:blip r:embed="rId2"/>
          <a:stretch/>
        </p:blipFill>
        <p:spPr>
          <a:xfrm>
            <a:off x="420840" y="480960"/>
            <a:ext cx="8246880" cy="1189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C:\Users\Ира\Pictures\Desktop\Новая папка\clipart-borders-free-chocolate-5.jpg"/>
          <p:cNvPicPr/>
          <p:nvPr/>
        </p:nvPicPr>
        <p:blipFill>
          <a:blip r:embed="rId1"/>
          <a:srcRect l="7313" t="7530" r="6482" b="85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914040" y="13716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1. Агустус Глуп</a:t>
            </a: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                                             А) нерозумний, неуважни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2. Верука Солт</a:t>
            </a: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          Б) мудрий, дивакувати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3. Віолета Борегард</a:t>
            </a: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          В) самовпевнена, нахаб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4. Майк Тіві</a:t>
            </a: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          Г) спокійний, добри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5. Чарлі Бакет</a:t>
            </a: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          Д) капризна, нервов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6. Віллі Вонка</a:t>
            </a: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          Е) агресивний, зли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1. Агустус Глуп</a:t>
            </a: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          А) телепортатор шоколаду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2. Верука Солт</a:t>
            </a: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          Б) власник фабрик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3. Віолета Борегард</a:t>
            </a: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                           В) жуйка-обід, фіолетова кул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4. Майк Тіві</a:t>
            </a: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          Г) труба з шоколадом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5.Чарлі Бакет</a:t>
            </a: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1700" spc="-1" strike="noStrike">
                <a:solidFill>
                  <a:srgbClr val="000000"/>
                </a:solidFill>
                <a:latin typeface="Georgia"/>
              </a:rPr>
              <a:t>          Д) білка, сміттєпровід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Прямоугольник 3" descr=""/>
          <p:cNvPicPr/>
          <p:nvPr/>
        </p:nvPicPr>
        <p:blipFill>
          <a:blip r:embed="rId2"/>
          <a:stretch/>
        </p:blipFill>
        <p:spPr>
          <a:xfrm>
            <a:off x="560520" y="480960"/>
            <a:ext cx="8424720" cy="1189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F:\кучеренко\Ыра\1-dengi-320x240.gif"/>
          <p:cNvPicPr/>
          <p:nvPr/>
        </p:nvPicPr>
        <p:blipFill>
          <a:blip r:embed="rId3"/>
          <a:stretch/>
        </p:blipFill>
        <p:spPr>
          <a:xfrm>
            <a:off x="2590920" y="2209680"/>
            <a:ext cx="3047760" cy="2667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Ира\Pictures\Desktop\Новая папка\clipart-borders-free-chocolate-5.jpg"/>
          <p:cNvPicPr/>
          <p:nvPr/>
        </p:nvPicPr>
        <p:blipFill>
          <a:blip r:embed="rId1"/>
          <a:srcRect l="7313" t="7530" r="6482" b="85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Georgia"/>
              </a:rPr>
              <a:t>      </a:t>
            </a:r>
            <a:r>
              <a:rPr b="1" lang="uk-UA" sz="2400" spc="-1" strike="noStrike">
                <a:solidFill>
                  <a:srgbClr val="ff0000"/>
                </a:solidFill>
                <a:latin typeface="Georgia"/>
              </a:rPr>
              <a:t>Казка 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епічний , розповідний, сюжетний твір про вигадані та фантастичні події. Казка буває фольклорною  і  літературно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Georgia"/>
              </a:rPr>
              <a:t>      </a:t>
            </a:r>
            <a:r>
              <a:rPr b="1" lang="uk-UA" sz="2400" spc="-1" strike="noStrike">
                <a:solidFill>
                  <a:srgbClr val="ff0000"/>
                </a:solidFill>
                <a:latin typeface="Georgia"/>
              </a:rPr>
              <a:t>Повість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епічний прозовий твір, який характеризується однолінійним сюжетом, невеликою кількістю дійових осіб і охоплює невеликий проміжок часу. За широтою охоплення життєвих явищ і глибиною їх розкриття посідає проміжне місце між романом і оповіданн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Georgia"/>
              </a:rPr>
              <a:t>      </a:t>
            </a:r>
            <a:r>
              <a:rPr b="1" lang="uk-UA" sz="2400" spc="-1" strike="noStrike">
                <a:solidFill>
                  <a:srgbClr val="ff0000"/>
                </a:solidFill>
                <a:latin typeface="Georgia"/>
              </a:rPr>
              <a:t>Казкова повість</a:t>
            </a:r>
            <a:r>
              <a:rPr b="0" lang="uk-UA" sz="2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– ХТ, що поєднує у собі ознаки і повісті, і казки:, центр тво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Calibri"/>
              </a:rPr>
              <a:t>ановитиослідовністьподі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Прямоугольник 1" descr=""/>
          <p:cNvPicPr/>
          <p:nvPr/>
        </p:nvPicPr>
        <p:blipFill>
          <a:blip r:embed="rId2"/>
          <a:stretch/>
        </p:blipFill>
        <p:spPr>
          <a:xfrm>
            <a:off x="2651040" y="328680"/>
            <a:ext cx="3567240" cy="1189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F:\кучеренко\Ыра\monety.gif"/>
          <p:cNvPicPr/>
          <p:nvPr/>
        </p:nvPicPr>
        <p:blipFill>
          <a:blip r:embed="rId3"/>
          <a:stretch/>
        </p:blipFill>
        <p:spPr>
          <a:xfrm>
            <a:off x="6346800" y="4648320"/>
            <a:ext cx="2073240" cy="1409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C:\Users\Ира\Pictures\Desktop\Новая папка\clipart-borders-free-chocolate-5.jpg"/>
          <p:cNvPicPr/>
          <p:nvPr/>
        </p:nvPicPr>
        <p:blipFill>
          <a:blip r:embed="rId1"/>
          <a:srcRect l="7313" t="7530" r="6482" b="85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ff0000"/>
                </a:solidFill>
                <a:latin typeface="Georgia"/>
              </a:rPr>
              <a:t>Портрет</a:t>
            </a:r>
            <a:r>
              <a:rPr b="0" lang="uk-UA" sz="2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– зображення у літературному творі  зовнішнього вигляду, пози, рухів, виразу обличчя людини, її одягу, взуття тощ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Georgia"/>
              </a:rPr>
              <a:t>       </a:t>
            </a:r>
            <a:r>
              <a:rPr b="1" lang="uk-UA" sz="2400" spc="-1" strike="noStrike">
                <a:solidFill>
                  <a:srgbClr val="ff0000"/>
                </a:solidFill>
                <a:latin typeface="Georgia"/>
              </a:rPr>
              <a:t>Сюжет</a:t>
            </a:r>
            <a:r>
              <a:rPr b="0" lang="uk-UA" sz="2400" spc="-1" strike="noStrike">
                <a:solidFill>
                  <a:srgbClr val="ff0000"/>
                </a:solidFill>
                <a:latin typeface="Georgia"/>
              </a:rPr>
              <a:t> –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 організована в життєво правдоподібну картину система подій у творі за участю певних персонажі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Georgia"/>
              </a:rPr>
              <a:t>        </a:t>
            </a:r>
            <a:r>
              <a:rPr b="1" lang="uk-UA" sz="2400" spc="-1" strike="noStrike">
                <a:solidFill>
                  <a:srgbClr val="ff0000"/>
                </a:solidFill>
                <a:latin typeface="Georgia"/>
              </a:rPr>
              <a:t>Персонаж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дійова особа у творі, втілення загального у конкретно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Georgia"/>
              </a:rPr>
              <a:t>        </a:t>
            </a:r>
            <a:r>
              <a:rPr b="1" lang="uk-UA" sz="2400" spc="-1" strike="noStrike">
                <a:solidFill>
                  <a:srgbClr val="ff0000"/>
                </a:solidFill>
                <a:latin typeface="Georgia"/>
              </a:rPr>
              <a:t>Герой літературного твору 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персонаж із яскравими індивідуальними рисами, рушій сюжету, центр тво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Calibri"/>
              </a:rPr>
              <a:t>ановитиослідовністьподі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Прямоугольник 1" descr=""/>
          <p:cNvPicPr/>
          <p:nvPr/>
        </p:nvPicPr>
        <p:blipFill>
          <a:blip r:embed="rId2"/>
          <a:stretch/>
        </p:blipFill>
        <p:spPr>
          <a:xfrm>
            <a:off x="2651040" y="328680"/>
            <a:ext cx="3567240" cy="1189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F:\кучеренко\Ыра\monety.gif"/>
          <p:cNvPicPr/>
          <p:nvPr/>
        </p:nvPicPr>
        <p:blipFill>
          <a:blip r:embed="rId3"/>
          <a:stretch/>
        </p:blipFill>
        <p:spPr>
          <a:xfrm>
            <a:off x="6346800" y="4648320"/>
            <a:ext cx="2073240" cy="1409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C:\Users\Ира\Pictures\Desktop\Новая папка\clipart-borders-free-chocolate-5.jpg"/>
          <p:cNvPicPr/>
          <p:nvPr/>
        </p:nvPicPr>
        <p:blipFill>
          <a:blip r:embed="rId1"/>
          <a:srcRect l="7313" t="7530" r="6482" b="85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990360" y="15238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500" spc="-1" strike="noStrike">
                <a:solidFill>
                  <a:srgbClr val="000000"/>
                </a:solidFill>
                <a:latin typeface="Georgia"/>
              </a:rPr>
              <a:t>1. Найбільша мрія Чарлі? (побувати на фабриці містера Вонки і дізнатися, що там усередині?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1500" spc="-1" strike="noStrike">
                <a:solidFill>
                  <a:srgbClr val="000000"/>
                </a:solidFill>
                <a:latin typeface="Georgia"/>
              </a:rPr>
              <a:t>2. Хто першим знайшов золотий квиток? (Августус Глуп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1500" spc="-1" strike="noStrike">
                <a:solidFill>
                  <a:srgbClr val="000000"/>
                </a:solidFill>
                <a:latin typeface="Georgia"/>
              </a:rPr>
              <a:t>3. Хто другим знайшов золотий квиток? (Верука Солт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1500" spc="-1" strike="noStrike">
                <a:solidFill>
                  <a:srgbClr val="000000"/>
                </a:solidFill>
                <a:latin typeface="Georgia"/>
              </a:rPr>
              <a:t>4. Хто трет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i</a:t>
            </a:r>
            <a:r>
              <a:rPr b="0" lang="uk-UA" sz="1500" spc="-1" strike="noStrike">
                <a:solidFill>
                  <a:srgbClr val="000000"/>
                </a:solidFill>
                <a:latin typeface="Georgia"/>
              </a:rPr>
              <a:t>м знайшов золотий квиток? (В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i</a:t>
            </a:r>
            <a:r>
              <a:rPr b="0" lang="uk-UA" sz="1500" spc="-1" strike="noStrike">
                <a:solidFill>
                  <a:srgbClr val="000000"/>
                </a:solidFill>
                <a:latin typeface="Georgia"/>
              </a:rPr>
              <a:t>олета Борегард 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1500" spc="-1" strike="noStrike">
                <a:solidFill>
                  <a:srgbClr val="000000"/>
                </a:solidFill>
                <a:latin typeface="Georgia"/>
              </a:rPr>
              <a:t>5. Хто четвертим знайшов золотий квиток? ( Майк Тіві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1500" spc="-1" strike="noStrike">
                <a:solidFill>
                  <a:srgbClr val="000000"/>
                </a:solidFill>
                <a:latin typeface="Georgia"/>
              </a:rPr>
              <a:t>6. Хто п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ятим</a:t>
            </a:r>
            <a:r>
              <a:rPr b="0" lang="uk-UA" sz="1500" spc="-1" strike="noStrike">
                <a:solidFill>
                  <a:srgbClr val="000000"/>
                </a:solidFill>
                <a:latin typeface="Georgia"/>
              </a:rPr>
              <a:t> знайшов золотий квиток? ( Чарлі Бакет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1500" spc="-1" strike="noStrike">
                <a:solidFill>
                  <a:srgbClr val="000000"/>
                </a:solidFill>
                <a:latin typeface="Georgia"/>
              </a:rPr>
              <a:t>7. Який рекорд встановила Віолета Борегард? (жувала жуйку 3 місяці безперервно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1500" spc="-1" strike="noStrike">
                <a:solidFill>
                  <a:srgbClr val="000000"/>
                </a:solidFill>
                <a:latin typeface="Georgia"/>
              </a:rPr>
              <a:t>8. Хто працював на цій загадковій фабриці? (умпа-лумпи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1500" spc="-1" strike="noStrike">
                <a:solidFill>
                  <a:srgbClr val="000000"/>
                </a:solidFill>
                <a:latin typeface="Georgia"/>
              </a:rPr>
              <a:t>9. Чим закінчилася екскурсія фабрикою для Веруки Солт? (вона з батьками опинилася у смітнику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Georgia"/>
              </a:rPr>
              <a:t>10. З чого була зроблена улюблена яхта Віллі Вонки? (з льодяників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Georgia"/>
              </a:rPr>
              <a:t>11. Які незвичайні властивості мала нова жуйка Вонки? (це був обід з трьох страв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Georgia"/>
              </a:rPr>
              <a:t>12. Чим був незвичайний ліфт, що пересувався шоколадною фабрикою? (він рухався у будь-якому напрямку, куди захочеш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eorgia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Прямоугольник 2" descr=""/>
          <p:cNvPicPr/>
          <p:nvPr/>
        </p:nvPicPr>
        <p:blipFill>
          <a:blip r:embed="rId2"/>
          <a:stretch/>
        </p:blipFill>
        <p:spPr>
          <a:xfrm>
            <a:off x="743040" y="480960"/>
            <a:ext cx="7651800" cy="1189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F:\кучеренко\Ыра\716405535.jpg"/>
          <p:cNvPicPr/>
          <p:nvPr/>
        </p:nvPicPr>
        <p:blipFill>
          <a:blip r:embed="rId3"/>
          <a:stretch/>
        </p:blipFill>
        <p:spPr>
          <a:xfrm>
            <a:off x="6729480" y="205092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C:\Users\Ира\Pictures\Desktop\Новая папка\clipart-borders-free-chocolate-5.jpg"/>
          <p:cNvPicPr/>
          <p:nvPr/>
        </p:nvPicPr>
        <p:blipFill>
          <a:blip r:embed="rId1"/>
          <a:srcRect l="7313" t="7530" r="6482" b="85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868320" y="1523880"/>
            <a:ext cx="7407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i="1" lang="uk-UA" sz="1900" spc="-1" strike="noStrike">
                <a:solidFill>
                  <a:srgbClr val="000000"/>
                </a:solidFill>
                <a:latin typeface="Times New Roman"/>
              </a:rPr>
              <a:t>Тільки уявіть собі,що ви натиснули кнопку з надписом …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«КАРАМЕЛЬКОВІ ПЛОМБИ - ЗАБУДЬТЕ ПРО ЗУБНИХ ЛІКАРІВ»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«ГУБОСКЛЕЮВАЛЬНА ХАЛВА ДЛЯ БАЛАКУЧИХ БАТЬКІВ».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«ЗБИВАЛЬНІ ЛАСОЩІ, ЩО ПІСЛЯ КОВТАННЯ СМАЧНО ЗВИВАЮТЬСЯ В ЖИВОТІ»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«НЕВИДИМІ ШОКОЛАДКИ, ЩОБ ЇСТИ НА УРОЦІ»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«ГЛАЗУРОВАНІ ОЛІВЦІ ДЛЯ СМОКТАННЯ»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«ЛИМОНАДНІ ПЛАВАЛЬНІ БАСЕЙНИ»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«ЧАРІВНА РУЧНА ПОМАДКА - САМА В РУЦІ, А СМАК НА ЯЗИЦІ»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«ВЕСЕЛКОВЕ ДРАЖЕ - СМОКЧИ І ПЛЮЙ ШІСТЬМА РІЗНИМИ БАРВАМИ»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Прямоугольник 3" descr=""/>
          <p:cNvPicPr/>
          <p:nvPr/>
        </p:nvPicPr>
        <p:blipFill>
          <a:blip r:embed="rId2"/>
          <a:stretch/>
        </p:blipFill>
        <p:spPr>
          <a:xfrm>
            <a:off x="884160" y="237960"/>
            <a:ext cx="7259760" cy="1511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F:\кучеренко\Ыра\0a85e9c82c269199b512560a85d18394.jpg"/>
          <p:cNvPicPr/>
          <p:nvPr/>
        </p:nvPicPr>
        <p:blipFill>
          <a:blip r:embed="rId3"/>
          <a:stretch/>
        </p:blipFill>
        <p:spPr>
          <a:xfrm>
            <a:off x="7010280" y="5029200"/>
            <a:ext cx="830520" cy="760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:\Users\Ира\Pictures\Desktop\Новая папка\clipart-borders-free-chocolate-5.jpg"/>
          <p:cNvPicPr/>
          <p:nvPr/>
        </p:nvPicPr>
        <p:blipFill>
          <a:blip r:embed="rId1"/>
          <a:srcRect l="7313" t="7530" r="6482" b="85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868320" y="1523880"/>
            <a:ext cx="7407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Тільки уявіть собі,що ви натиснули кнопку з надписом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ШАХТА З ВИДОБУВАННЯ ДРАЖЕ «МОРСЬКІ КАМІНЧИКИ» - ГЛИБИНА ТРИ КІЛОМЕТРИ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ЛЬОДЯНИКОВА КОВЗАНКА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ВОДЯНІ ПІСТОЛЕТИ З ПОЛУНИЧНИМ СОКОМ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ІРИСКОВІ ЯБЛУНІ ДЛЯ ВАШОГО САДУ - ВСІХ РОЗМІРІВ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ВИБУХОВІ ЦУКЕРКИ ДЛЯ ВАШИХ ВОРОГІВ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ЧУПА-ЧУПСИ, ЩО СВІТЯТЬСЯ - ДЛЯ СПОЖИВАННЯ ВНОЧІ В ЛІЖКУ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М'ЯТНІ ЖЕЛЕЙКИ ДЛЯ СУСІДСЬКОГО ХЛОПЦЯ - ЩОБ ЦІЛИЙ МІСЯЦЬ ХОДИВ З ЗЕЛЕНИМИ ЗУБАМИ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Прямоугольник 3" descr=""/>
          <p:cNvPicPr/>
          <p:nvPr/>
        </p:nvPicPr>
        <p:blipFill>
          <a:blip r:embed="rId2"/>
          <a:stretch/>
        </p:blipFill>
        <p:spPr>
          <a:xfrm>
            <a:off x="884160" y="237960"/>
            <a:ext cx="7259760" cy="1511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F:\кучеренко\Ыра\0a85e9c82c269199b512560a85d18394.jpg"/>
          <p:cNvPicPr/>
          <p:nvPr/>
        </p:nvPicPr>
        <p:blipFill>
          <a:blip r:embed="rId3"/>
          <a:stretch/>
        </p:blipFill>
        <p:spPr>
          <a:xfrm>
            <a:off x="6850080" y="2216160"/>
            <a:ext cx="1066680" cy="976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C:\Users\Ира\Pictures\Desktop\Новая папка\clipart-borders-free-chocolate-5.jpg"/>
          <p:cNvPicPr/>
          <p:nvPr/>
        </p:nvPicPr>
        <p:blipFill>
          <a:blip r:embed="rId1"/>
          <a:srcRect l="7313" t="7530" r="6482" b="85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414320" y="20574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Створюючи своїх персонажів, Р. Дал намагався не лише підібрати для них імена та     прізвища, але і тим самим підкреслити певну рису характеру чи зовнішності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–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жадібний та ненажерливий хлопчик, «їжа – його улюблене заняття». Тому, обираючи прізвище для дев’ятирічного хлопчика, що був надміру повним і надто багато їв, письменник підбирає слово gloop, що в перекладі з англійської означає в’язка маса, безформна речовина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Users\Ира\Pictures\Desktop\charlie_and_the_chocolate_factory_2005_5345_wallpaper.jpg"/>
          <p:cNvPicPr/>
          <p:nvPr/>
        </p:nvPicPr>
        <p:blipFill>
          <a:blip r:embed="rId2"/>
          <a:srcRect l="6063" t="0" r="0" b="0"/>
          <a:stretch/>
        </p:blipFill>
        <p:spPr>
          <a:xfrm>
            <a:off x="957240" y="2317680"/>
            <a:ext cx="3614760" cy="307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1" name="Прямоугольник 3" descr=""/>
          <p:cNvPicPr/>
          <p:nvPr/>
        </p:nvPicPr>
        <p:blipFill>
          <a:blip r:embed="rId3"/>
          <a:stretch/>
        </p:blipFill>
        <p:spPr>
          <a:xfrm>
            <a:off x="895320" y="249120"/>
            <a:ext cx="7089840" cy="2017800"/>
          </a:xfrm>
          <a:prstGeom prst="rect">
            <a:avLst/>
          </a:prstGeom>
          <a:ln w="0">
            <a:noFill/>
          </a:ln>
        </p:spPr>
      </p:pic>
      <p:sp>
        <p:nvSpPr>
          <p:cNvPr id="82" name="TextBox 6"/>
          <p:cNvSpPr/>
          <p:nvPr/>
        </p:nvSpPr>
        <p:spPr>
          <a:xfrm>
            <a:off x="4900680" y="352584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Georgia"/>
              </a:rPr>
              <a:t>Августус Глу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C:\Users\Ира\Pictures\Desktop\Новая папка\clipart-borders-free-chocolate-5.jpg"/>
          <p:cNvPicPr/>
          <p:nvPr/>
        </p:nvPicPr>
        <p:blipFill>
          <a:blip r:embed="rId1"/>
          <a:srcRect l="7313" t="7530" r="6482" b="85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554360" y="175248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розпещена дівчинка із родини власника фабрики по переробці горіхів, звикла до того,щоб усі її забаганки тут же виконувалися. В перекладі з англійської мови verruca означає бородавка. Дане слово викликає тільки негативні асоціації. Саме такі характеристики і створюють образ дівчинки: вона завжди вередує, потребує надмірної уваги до себе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Users\Ира\Pictures\Desktop\1151005939_D7E0F0EBE820E820F8EEEAEEEBE0E4EDE0FF20F4E0E1F0E8EAE0203032.jpg"/>
          <p:cNvPicPr/>
          <p:nvPr/>
        </p:nvPicPr>
        <p:blipFill>
          <a:blip r:embed="rId2"/>
          <a:srcRect l="0" t="0" r="2824" b="0"/>
          <a:stretch/>
        </p:blipFill>
        <p:spPr>
          <a:xfrm>
            <a:off x="914400" y="1523880"/>
            <a:ext cx="3887640" cy="320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6" name="TextBox 3"/>
          <p:cNvSpPr/>
          <p:nvPr/>
        </p:nvSpPr>
        <p:spPr>
          <a:xfrm>
            <a:off x="5334120" y="12938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Georgia"/>
              </a:rPr>
              <a:t>Верука Сол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31T20:30:20Z</dcterms:created>
  <dc:creator>Ира</dc:creator>
  <dc:description/>
  <dc:language>en-US</dc:language>
  <cp:lastModifiedBy>Inna</cp:lastModifiedBy>
  <dcterms:modified xsi:type="dcterms:W3CDTF">2018-02-20T20:15:37Z</dcterms:modified>
  <cp:revision>43</cp:revision>
  <dc:subject/>
  <dc:title>Слайд 1</dc:title>
</cp:coreProperties>
</file>